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071-EB0D-454F-9CA1-32E7FC5D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44F-2388-4CF4-B4CE-949B941E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76B-3152-4E52-942E-B2F57B28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6BF-DF16-459C-A958-F172CF73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3A3-4C07-4C87-B9FF-B11BBAFC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052-E9FA-4430-995E-5F3108B8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68B-E557-4E97-BDC5-BDF1472A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037-7238-467D-8B24-8CF2FEB2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69D-3787-4BFC-B97A-5807DAD8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500-6C78-44F4-A8ED-8C3D4DDC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B2A-1076-4C95-8A09-E39AA6DB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515-EA94-4D47-8A77-9E912B09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0C1D-5983-4937-A19F-BCA3E512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841320"/>
            <a:ext cx="5977080" cy="546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260280"/>
            <a:ext cx="7296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ranstaltungen 201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413000"/>
            <a:ext cx="860400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02.06.11 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Himmelfahrts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18.06.11 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Amtsausscheid auf d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„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alten“ Sportplatz – Chausseestraß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06.08.11 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Dorff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03.12.11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Weihnachtsmar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17.12.11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Weihnachtsmar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8:16:07Z</dcterms:created>
  <dc:creator>Steffi</dc:creator>
  <dc:description/>
  <dc:language>en-US</dc:language>
  <cp:lastModifiedBy>Steffi</cp:lastModifiedBy>
  <dcterms:modified xsi:type="dcterms:W3CDTF">2011-04-18T08:37:10Z</dcterms:modified>
  <cp:revision>4</cp:revision>
  <dc:subject/>
  <dc:title>Folie 1</dc:title>
</cp:coreProperties>
</file>